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A9A6-5535-4063-AFE1-3E9C86AA3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0846-2488-4C27-8920-1B6D0F1C865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3280-2F4F-4171-9D9B-1B6840538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FCF4-A678-4F34-A28A-1E9FD6DE8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5B58-600E-4AF1-8BEC-053960C2B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4DA5-A8B2-4E1B-896E-ABB8B24C6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7E71C-4BAE-448A-8C25-E73061191B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F3696-E8D3-44ED-A7A3-8A744CA7C9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371C2-C57F-4E21-AC20-21FEC5D99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01553-A1C1-4C3B-B056-CDA3945F6E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C46D5-D479-41FB-A1CE-9C7FF3CC8B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DC369-CC36-4DB1-BCBC-056E1C8C02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4A12B-4D54-41DB-A549-E5C93F3F0F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F51E-F893-4B47-B08C-B60733A9F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B5C91-2A9E-4DC0-8003-3965B2B2F8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C6D8C-50EF-4CFE-BD9C-B2132F2557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4A93A-F8C0-4E66-8C9B-FCB14F5072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AE7BD-EC8B-41D7-B20D-6078671BA7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D78F0-5B77-4E3B-A9F7-DF7ADF13C1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9C0C-F0B1-41B2-AC6F-45E4C023B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9CAD-FF3F-4368-A86B-19514075B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59AC-E61A-4683-B9A9-625B7DA9A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10E3-E5C5-46D8-96B6-668F48C1A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08A7-3C9C-4493-8F86-2AECEF8DC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0BEB-00EF-4448-B491-F9524DE3D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5226-1D51-4B5D-A446-1097D5E45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C609D38-2AF5-48C7-8C41-408D4789B0A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73AA437-4E76-44E2-90B1-A3542F6066E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7910955-8D8F-4C2C-85E3-8F70BDF1D8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181480" y="2670120"/>
            <a:ext cx="2895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2B4C3CF-587A-47E5-9461-6C9C09E8616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brought to attention of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found in standard-form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 an unequal bargaining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44CB5C9-EB86-4189-81CA-C1B7C06DF2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alse and misleading statements that induce a person to enter into a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 term of contract, can sue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tatement of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ement of opinion actionable if made by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generally not misrepresentation, unless duty to disclose (duty of good fai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101A499-679F-469B-9CDB-488D2160797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noc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leading another without knowing or being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remedy is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goods destroyed or not available, no other remedy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erson claiming resc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contract affi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0CEDC5E-75F3-4AAF-9C8E-3BC186EB61E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audul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and knowingly misleading another to induce him/her to enter into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ade innocent misrepresentation, and later learn it is false, but fail to correct it, it becomes fraudu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punitive damages in extre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sue for innocent or negligent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886BB70-7591-4FBB-91E6-9FDC52E005D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person making misrepresentation should have known what he/she was saying was false, he/she was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4CB595B-713E-436B-9B41-9D392F4F76F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iminal Fra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fic provisions of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deal with fraudulent activity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. 361-365 prohibit knowingly making false representations intended to induce someone to act on the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ections deal with specific areas of fraud including the falsification of employee records, books, and other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254C59E-00F0-4929-95D0-936A095AD52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tering into a contract because of coe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be violence, financial pressure, scand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against you, your family, your property, o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s usually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also be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F6E6783-51D7-4A43-B373-2DAA7CA679C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due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use of trus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ed in certai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yers, doctors, trustees, guardians, religious advisors, adults with infant children, adult children with aging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 b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ave to prove in other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45AAC9A-9DAC-4A67-82A4-F10A0DF5366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conscio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aking advantage of vulnerable person’s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poverty, mental impairment (short of in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rgaining positions of parties are un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grossly unfair to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can set aside or modif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regulat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23BE080-D4F3-4FB2-8E09-5F772BFAEDC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the parties to a contract are bound to it or may enforc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ests in land bind subsequent owners of th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usts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2F816F4-21E3-458C-8C34-624F617258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vents that can bring a contract to an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various mistakes that can end or otherwise affect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four forms of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effects of duress and undue influence on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1F9B3C8-F3F2-4A85-B83C-5F23309D56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s acting for princip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never a party, so no privity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taking over obligations of another in a contract; no privity issues as new contrac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clauses often extended to employees, thus ignoring pr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B8F4ADD-6D3A-4D02-953C-DB33E80B04C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nsferring a benefit under a contract to a third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553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A3EC52C-369D-4EFA-BDE7-0C8163A3D64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assignor and assignee must join together to sue if debtor fails to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assignment allows assignee to sue directly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absolute (complete and uncondi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in wri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per notice was given to deb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59B882E-F648-4374-A9CB-E2A5E9C53C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only assign the benefits, not the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takes assignment “subject to the equ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cannot be in a better position than the assig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D2EB5C2-790C-46D3-9D90-ADD19E93AD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olled by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ills of Exchang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eely transferable from party to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nocent third party (called 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may enforce a negotiable instrument against the person who mad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lude promissory notes, cheques, and bills of exchange (ak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draft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CD0083B-4268-4DB1-81C9-D14FB4B8C22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missory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promises to pay another a certain sum of money at some future date or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73818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224790F-9983-4037-A62B-83CF86BA6E6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er orders bank to pay a certain sum of money to a third party (th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aye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r>
              <a:rPr b="0" lang="en-CA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0866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B88BAD7-98E0-41C3-BB72-737CF6EECF9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ll of ex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an order to any person or business to pay money to someone either now or at a futu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81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A37D0AD-68C7-47D3-AFB1-D423603F9E3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ocent third party who acquires possession of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collect whether original obligations me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instrument is endorsed, that person can also be held liable for amount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B15D200-2241-4BC4-B58D-A14BCC535A9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harge of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5D52CFD-1806-4D1D-B8FB-BA8FA024527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lications of privity and assignment for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a contract can be breached or otherwise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remedies that are available for breach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isk-reduction strategies when forming or ending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4810A96-2D9B-4EF0-A77F-2C42BA66DBD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parties have performed as required under the contract, it is discha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s - maj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contract ends (if other party wants to end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rranties - min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obligation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seek damages from breaching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1AC419E-F9CD-452A-AB28-DB878FD365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all obligations have been fulfilled,  but a condition is breached in a mino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compensation for small part rem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requires payment, must be cash unless otherwis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mits on coinage se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urrency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9B8112A-83DD-44FC-998A-EAEE6D4B5E8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der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dy, willing, and able to perform; other party refuses to accep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has been breached by refusal; performance no longer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bt treated differently – if party refuses to accept payment, money is still owed but debtor must seek payment and bear all costs of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1482485-806B-4C02-81BE-03E1D375FB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omplete or improper performance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udiation – breach by refusal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– repudiation before performance is due gives victim two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at contract as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inue to dem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AFC7C49-9D3D-46FC-8C7B-02BEC390CC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is treated as ended, victim may sue for breach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demands performance, unexpected events may discharge both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of repudiation does not perform during waiting period, he/she will be in b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oice of remedy is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2E9693E-14B1-4DA2-8048-0AD299F0EAB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attempt to lessen liability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rrowly interpreted by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undamental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each of very esse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emption clauses can still apply if properly w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cases, a breach of contract can be a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54D48B9-92A0-4192-B6A1-B80E096E3F4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utside, unforeseen event that is out of the control of either party and renders contract either impossible to perform or completely different than what parties contemp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used by things such as illness, destruction of subject matter, government actions, natural dis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52C38D5-7DEB-407F-9304-DEBBDF4158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ffect used to be “let the loss lie where it fal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jurisdictions now have legislation that require payment for benefits received and the return or apportionment of any 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9F0FA2E-242D-4F90-8202-00BB5442F64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modify or end a contract by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elements of contract must be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impose change on the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ach side must receive new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just relieving each of his/her remaining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ly one side relieved, change is not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F4D7B06-7B5C-47CF-B5A4-182E9A828C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tself may contain conditions for changing or ending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precedent - Contract begins only if conditions are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subsequent - Terms in contract specify when continuing obligations will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8E94AD2-2FE7-4DD7-81EA-04A3D4C12AA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isp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revolve a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existence of the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onduct of the parties at time of negotiating th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ance of obligations under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BF967D2-0D90-43CD-914B-C96272E54C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turning parties to original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ensation to attempt to put victim in position he/she would have been in if contract properly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times includes emotional stress or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D3DEE8B-56FC-41B9-A0BF-2E6A98BD8B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quidated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 in contract to limit da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mount forfeited as pre-estimate of dam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n paym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payment of purchase price; not meant to be forfe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D7E1338-EF8B-488D-8744-03B96AD90E6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ust mitigat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must be reasonably foreseeable at time contract enter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available if damages not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arty cla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innocent third party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109BF90-5692-43CF-A4FA-90ACE921EEB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breaching party to perform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subject matter of contrac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a person to stop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5B4F7A6-833B-4104-B54E-0CB7DAA681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close financial records and dea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profits of wrongdoing to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a reasonable price for services ren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C6D0FD3-9575-4313-8E11-94D308F279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parties have a different understanding of terms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ar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have made same mis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only in recording the terms, may ask court to rectify (correct)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8839FA5-5B09-4B98-935D-1470724279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 different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will imply most reasonable interpretation and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both interpretations equally reasonable, 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6673A60-B37C-415A-B33C-7A2F4FF835E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has no effect 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aveat emptor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let the buyer bew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if different understanding is a result of misrepresentation would it be actio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A2867F3-8762-453E-B3FE-A7C72CB79C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mistake as to nature of document signed, contract may b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Non est factum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It is not my 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as to nature of document due to carelessness, claim is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s and words given “reasonable mea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ustry usage for special or 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99684F1-7931-437D-BCD7-595ADE2E438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known as exculpatory, exclusion, or limit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ttempt to limit or eliminate liability for one party to th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e to one-sided nature, courts 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 narrowly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ainst the favoure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4:35Z</dcterms:created>
  <dc:creator>Client Name</dc:creator>
  <dc:description/>
  <dc:language>en-US</dc:language>
  <cp:lastModifiedBy>User</cp:lastModifiedBy>
  <dcterms:modified xsi:type="dcterms:W3CDTF">2012-04-24T16:13:26Z</dcterms:modified>
  <cp:revision>148</cp:revision>
  <dc:subject/>
  <dc:title>Slide 1</dc:title>
</cp:coreProperties>
</file>